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4990-E993-4F6E-80BD-75AE384F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8963-2EE0-49B5-A0CD-B34FD81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56E3-394A-499C-9DBE-DFBCDEDE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AB06-B47F-40A0-930E-1D3B1CEB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DBD-401C-4548-86E7-08A4DCBC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A05-7502-46C2-AECB-5488D18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5E1A-2CF9-403B-8876-4BF39588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DAE7-C103-4483-BAA8-E5C9632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1FB3-46BC-48E3-9903-0E149781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40E-16A5-4890-B476-53678AD4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F9C-8CDB-4948-AB92-734FF8A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E11F-BB0C-44D1-A886-139783D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1C89-D82D-48B7-A28C-3BE75918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404-8858-4F00-8A20-2B60D2E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CDDA-DD5B-46F7-A2F7-ED914085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1BA6-9D6B-4A40-9B9B-E6A78856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4D8-C496-439E-8F0F-2D84C3E6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5B75-6AF4-4584-881D-A64C36B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3607-9844-4D1F-9F2E-CDB4333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B534-A69B-4366-9E6A-8AEABAD6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F746-9F49-4E9C-AEE7-0F97EB0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BD58-5B79-4E9C-9B52-AB54962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F35F-0351-46C5-B339-A84F24A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7A65-4CD6-4DA0-BF9B-50E5CBB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8565-1202-468E-851B-DB76EE5B7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83D-443F-485F-8677-5153EA668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oles of the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9720" y="2085840"/>
          <a:ext cx="783432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85840"/>
                    <a:ext cx="7834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27A2-FDE5-4E7E-9EC1-B4D287F9D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:  Exec Comm. vs. cBI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4840" y="1444680"/>
          <a:ext cx="5921280" cy="42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4680"/>
                    <a:ext cx="59212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0F41-ADDD-4995-8BEF-9451671FB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5:36:56Z</dcterms:created>
  <dc:creator>klinnihan</dc:creator>
  <dc:description/>
  <dc:language>en-US</dc:language>
  <cp:lastModifiedBy>Sima Misra</cp:lastModifiedBy>
  <cp:lastPrinted>2005-06-01T19:24:06Z</cp:lastPrinted>
  <dcterms:modified xsi:type="dcterms:W3CDTF">2005-09-29T19:34:11Z</dcterms:modified>
  <cp:revision>49</cp:revision>
  <dc:subject/>
  <dc:title>Strategic Se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4845545</vt:r8>
  </property>
  <property fmtid="{D5CDD505-2E9C-101B-9397-08002B2CF9AE}" pid="3" name="_AuthorEmail">
    <vt:lpwstr>uman9@comcast.net</vt:lpwstr>
  </property>
  <property fmtid="{D5CDD505-2E9C-101B-9397-08002B2CF9AE}" pid="4" name="_AuthorEmailDisplayName">
    <vt:lpwstr>Ulrich Nettesheim</vt:lpwstr>
  </property>
  <property fmtid="{D5CDD505-2E9C-101B-9397-08002B2CF9AE}" pid="5" name="_EmailSubject">
    <vt:lpwstr>Head Search Mtg. 5/31</vt:lpwstr>
  </property>
</Properties>
</file>